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57FD-16D2-443D-86FB-77A0B2A5B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BA28-35F6-4F6E-BA76-AA4DFF895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3294-B0A5-4490-8462-4FC83E333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2E49-D38F-45DE-9683-BFE6459CC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C4F1-7EDB-43BD-A11E-42E46BE5A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3207-13EE-47C5-936B-49699BB25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1C06-9835-46F8-A1A2-1650FC958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A8C6-9D93-45FB-907F-AE14E219B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4D0D-6EE0-43FC-B7A3-7CAA44F7B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D469-EF41-478A-A5A6-7B4315750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6194-995B-48C8-BABB-E44E91024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5AB43-579E-4475-9DBA-2E49D3F11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532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664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532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664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5E8A-9BAD-41ED-8625-7252B03638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364C1-9F4F-4166-A986-7E6529AA81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167D-C6FA-438B-99CB-5BBBE0FC0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A38A-88F7-49AC-A592-663052479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C72BB-C208-44E4-A673-28AB73B37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E8FB7-0340-409C-8DB2-766378C78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DBE1-F54F-4C66-9EBF-F0C9B4771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31997-A353-4889-B8C7-D0BD7EAC3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EBEDC-B359-4922-ACA3-2FD7C49D0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6FEF1A2C-1639-4B5A-A185-BF8C4C3797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EE38EE20-ACD2-44A4-AB45-0C63BC0EAB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Leçon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learned four ways to formulate yes or    no questions in French. However, many questions seek information that can’t be provided by a simple yes or      no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F27812AB-C091-402D-83BD-5DC39FEC47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these words with </a:t>
            </a:r>
            <a:r>
              <a:rPr b="1" lang="en-US" sz="2100" spc="-1" strike="noStrike">
                <a:solidFill>
                  <a:srgbClr val="2483c8"/>
                </a:solidFill>
                <a:latin typeface="Arial"/>
              </a:rPr>
              <a:t>est-ce qu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r invers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07_02_p120a"/>
          <p:cNvPicPr/>
          <p:nvPr/>
        </p:nvPicPr>
        <p:blipFill>
          <a:blip r:embed="rId1"/>
          <a:stretch/>
        </p:blipFill>
        <p:spPr>
          <a:xfrm>
            <a:off x="1447920" y="2131920"/>
            <a:ext cx="6248160" cy="259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07_02_p120b"/>
          <p:cNvPicPr/>
          <p:nvPr/>
        </p:nvPicPr>
        <p:blipFill>
          <a:blip r:embed="rId2"/>
          <a:stretch/>
        </p:blipFill>
        <p:spPr>
          <a:xfrm>
            <a:off x="1736640" y="4627440"/>
            <a:ext cx="5426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D3310A6D-0C24-4D58-9EB2-91B0082282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quand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à quelle heur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translat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nglish, they are not interchangeable. Us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qu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alk about a day or date,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à quelle he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alk about a particular time of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07_02_p120c"/>
          <p:cNvPicPr/>
          <p:nvPr/>
        </p:nvPicPr>
        <p:blipFill>
          <a:blip r:embed="rId1"/>
          <a:stretch/>
        </p:blipFill>
        <p:spPr>
          <a:xfrm>
            <a:off x="1371600" y="3429000"/>
            <a:ext cx="62085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384601A0-B2D0-4E37-B407-0CC9CDEE8B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6108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way to formulate questions with most interrogative words is by placing them after a verb. This kind of formulation is very informal but very comm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quoi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ust immediately follow a preposition in order to be used with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est-ce 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inversion. If no preposition is necessary, plac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quo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the v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7_02_p120e"/>
          <p:cNvPicPr/>
          <p:nvPr/>
        </p:nvPicPr>
        <p:blipFill>
          <a:blip r:embed="rId1"/>
          <a:stretch/>
        </p:blipFill>
        <p:spPr>
          <a:xfrm>
            <a:off x="1676520" y="4800600"/>
            <a:ext cx="6172200" cy="153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07_02_p120d"/>
          <p:cNvPicPr/>
          <p:nvPr/>
        </p:nvPicPr>
        <p:blipFill>
          <a:blip r:embed="rId2"/>
          <a:stretch/>
        </p:blipFill>
        <p:spPr>
          <a:xfrm>
            <a:off x="1523880" y="2806560"/>
            <a:ext cx="58946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C8E70B39-77E9-48C8-862D-FDB150F55A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swer a question formulated with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ourquo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         us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arce que/qu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impolite to us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Quoi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ndicate that you don’t understand what’s being said. Us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omment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ardon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07_02_p121a"/>
          <p:cNvPicPr/>
          <p:nvPr/>
        </p:nvPicPr>
        <p:blipFill>
          <a:blip r:embed="rId1"/>
          <a:stretch/>
        </p:blipFill>
        <p:spPr>
          <a:xfrm>
            <a:off x="1523880" y="2590920"/>
            <a:ext cx="5951520" cy="88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07_02_p121b"/>
          <p:cNvPicPr/>
          <p:nvPr/>
        </p:nvPicPr>
        <p:blipFill>
          <a:blip r:embed="rId2"/>
          <a:stretch/>
        </p:blipFill>
        <p:spPr>
          <a:xfrm>
            <a:off x="1600200" y="5105520"/>
            <a:ext cx="49528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AFC55327-2E20-4CC7-8811-BAA17B49A0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7_02_p121d"/>
          <p:cNvPicPr/>
          <p:nvPr/>
        </p:nvPicPr>
        <p:blipFill>
          <a:blip r:embed="rId1"/>
          <a:stretch/>
        </p:blipFill>
        <p:spPr>
          <a:xfrm>
            <a:off x="1143000" y="4038480"/>
            <a:ext cx="6918480" cy="2455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whe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qui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as a subject, the verb that follows is always sin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Quel(le)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rees in gender and number with the noun   it modif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07_02_p121c"/>
          <p:cNvPicPr/>
          <p:nvPr/>
        </p:nvPicPr>
        <p:blipFill>
          <a:blip r:embed="rId2"/>
          <a:stretch/>
        </p:blipFill>
        <p:spPr>
          <a:xfrm>
            <a:off x="1143000" y="2438280"/>
            <a:ext cx="66182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C4DCD505-1338-43F7-A0FA-17DBC217FC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Quel(le)(s)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placed before a form of the verb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ê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07_02_p121e"/>
          <p:cNvPicPr/>
          <p:nvPr/>
        </p:nvPicPr>
        <p:blipFill>
          <a:blip r:embed="rId1"/>
          <a:stretch/>
        </p:blipFill>
        <p:spPr>
          <a:xfrm>
            <a:off x="1676520" y="2362320"/>
            <a:ext cx="5554440" cy="663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07_02_p121f"/>
          <p:cNvPicPr/>
          <p:nvPr/>
        </p:nvPicPr>
        <p:blipFill>
          <a:blip r:embed="rId2"/>
          <a:stretch/>
        </p:blipFill>
        <p:spPr>
          <a:xfrm>
            <a:off x="1066680" y="3124080"/>
            <a:ext cx="687096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47198517-08A2-4E06-9B04-6CCCB0A135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essayez"/>
          <p:cNvPicPr/>
          <p:nvPr/>
        </p:nvPicPr>
        <p:blipFill>
          <a:blip r:embed="rId1"/>
          <a:stretch/>
        </p:blipFill>
        <p:spPr>
          <a:xfrm>
            <a:off x="547560" y="1523880"/>
            <a:ext cx="804888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762120" y="2362320"/>
          <a:ext cx="7619760" cy="359712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362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50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 allez-vous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 est-ce que vous allez faire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après le cours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cours de français commence à ___________ heure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 est-ce que tu ne travailles pas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c ___________ est-ce qu’on va au cinéma ce soir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 d’étudiants y a-t-il dans la salle de class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44"/>
          <p:cNvSpPr/>
          <p:nvPr/>
        </p:nvSpPr>
        <p:spPr>
          <a:xfrm>
            <a:off x="893880" y="1676520"/>
            <a:ext cx="73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4680" indent="-1714680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nnez les mots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interrogatif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2"/>
          <p:cNvSpPr/>
          <p:nvPr/>
        </p:nvSpPr>
        <p:spPr>
          <a:xfrm>
            <a:off x="1366920" y="24796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83c8"/>
                </a:solidFill>
                <a:latin typeface="Comic Sans MS"/>
              </a:rPr>
              <a:t>Com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Copyright © 2010 Vista Higher Learning. All rights reserved.</dc:creator>
  <dc:description/>
  <cp:keywords/>
  <dc:language>en-US</dc:language>
  <cp:lastModifiedBy>whs</cp:lastModifiedBy>
  <dcterms:modified xsi:type="dcterms:W3CDTF">2013-02-06T23:38:42Z</dcterms:modified>
  <cp:revision>36</cp:revision>
  <dc:subject>Structures 7.2</dc:subject>
  <dc:title>PROMENADES</dc:title>
</cp:coreProperties>
</file>